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5270499"/>
        <c:axId val="79952947"/>
      </c:barChart>
      <c:catAx>
        <c:axId val="85270499"/>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9952947"/>
        <c:crosses val="autoZero"/>
        <c:auto val="1"/>
        <c:lblAlgn val="ctr"/>
        <c:lblOffset val="100"/>
        <c:noMultiLvlLbl val="0"/>
      </c:catAx>
      <c:valAx>
        <c:axId val="7995294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5270499"/>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377AE-9477-466E-B6A2-86D00E5EB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1F7C5-E1DA-4869-BBA7-66867D6D2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BEF41-258A-4B7A-8921-98019F474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B2FB7-226F-4865-B8F6-3DD032C16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408D2-5CEB-4719-95DC-AE1F98A26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9A856-918B-4D36-9D45-4E45E77F5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D4023-EA68-4354-8706-9FA59CE81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118D6-55F9-447F-9B7F-8D97C4452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66DDB-22D0-41B4-85E9-A96AC4123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B45EB-2D58-4B54-8DAC-6651226A1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9DF6F-F54D-43AC-85E2-11493CE14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7CC0C-11AB-4342-944B-A6CCA647B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7461E-B647-4681-A655-FE74B01F5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2C742-CE8C-4871-9E8D-B6E55B98C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078D3-C966-4129-8A0C-DD13CF287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4BEAAD-7EAB-4E65-AA99-28DBE4073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DFEC0-F6A8-42B9-953E-91B711508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76888-0B8B-41C3-A321-D5D26BEF9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2B33-7C13-4D8E-8304-657065D48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EC2B1-3272-4AE0-89BB-2C65BFD7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18B45-5D4C-40E2-97D5-70B5360FD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11765-C285-4473-B7E9-289888A84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72A61-2E06-4D9F-8F12-627690C04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162B9-9E0D-46E2-8DEC-19D7143B1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7A5098-BDDE-4377-9EFA-EE70BD271EB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2D3F43-88DD-4ACA-A4D0-24B3381E14A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